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C327-C727-4535-8643-D081AD0B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64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190-2FF8-4815-AF6C-01E2055E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076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6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076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636-EC60-431E-8C2A-5FA0125C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48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13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64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48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13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2E7E-C98B-441D-8A88-6CAC127A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AF33-46F9-4D19-ADE9-4F79CFBA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764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02C4-F211-4399-B0EB-791E3766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7412-C98D-407C-A21E-F5A762B0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076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FCA4-4AF3-4B6F-AB6F-09E29185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310C-2E51-4007-8FAD-8E12C00B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48060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4265-483B-41B0-89C7-285F4C17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076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76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E865-1532-4EE4-86AE-6F97632B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64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919-63A2-45DB-AA1D-6EF761FE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076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076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F925-13A9-4B42-B5AF-9E8BC708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076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764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DAE1-31DC-41BD-AE7E-D7288F7A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764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40D3-438C-4EE5-B168-092A98ED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076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76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076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6A9A-51B0-499A-B9C2-27E56942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48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113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764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48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113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AB97-E3B5-4837-AF8D-D1E89AE5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EC4-C8BD-4002-A2FA-38E8203C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076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F1F-C52E-4DB0-AB53-7B3484B6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4AC-5F96-40A2-B47F-326C9FAB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48060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8F4-4D15-45E0-A2F3-C6D28506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076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6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1A3-FE63-404F-B109-75E6848D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076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076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456-1B62-4184-BEF6-45F19338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076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64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8C2-43A2-4FAC-BCD3-C22A44AA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40A2E-EC55-43E9-A72F-0A9938A9E8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764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527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11360" y="6527520"/>
            <a:ext cx="31910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55000" y="6527520"/>
            <a:ext cx="23428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4979A-CAA7-42D8-A0D7-8D6DA4385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imeforkids.com/minisite/election-2012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:Barack Ob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kname:Ba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ack Obama was born in Honolulu,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9400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ame:Mitt Rom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ickname:Bi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overnor of Massachusett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743200" y="68580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1017979" dir="18900860" blurRad="0" rotWithShape="0">
                    <a:srgbClr val="94bd5e">
                      <a:alpha val="60000"/>
                    </a:srgbClr>
                  </a:outerShdw>
                </a:effectLst>
                <a:latin typeface="Times New Roman"/>
              </a:rPr>
              <a:t>Presidential issues</a:t>
            </a:r>
            <a:endParaRPr b="0" lang="en-US" sz="1800" spc="-1" strike="noStrike">
              <a:ln w="0">
                <a:noFill/>
              </a:ln>
              <a:solidFill>
                <a:srgbClr val="008000"/>
              </a:solidFill>
              <a:effectLst>
                <a:outerShdw dist="1017979" dir="18900860" blurRad="0" rotWithShape="0">
                  <a:srgbClr val="94bd5e">
                    <a:alpha val="6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1017979" dir="18900860" blurRad="0" rotWithShape="0">
                    <a:srgbClr val="94bd5e">
                      <a:alpha val="60000"/>
                    </a:srgbClr>
                  </a:outerShdw>
                </a:effectLst>
                <a:latin typeface="Times New Roman"/>
              </a:rPr>
              <a:t>Amarion</a:t>
            </a:r>
            <a:endParaRPr b="0" lang="en-US" sz="1800" spc="-1" strike="noStrike">
              <a:ln w="0">
                <a:noFill/>
              </a:ln>
              <a:solidFill>
                <a:srgbClr val="008000"/>
              </a:solidFill>
              <a:effectLst>
                <a:outerShdw dist="1017979" dir="18900860" blurRad="0" rotWithShape="0">
                  <a:srgbClr val="94bd5e">
                    <a:alpha val="6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971800" y="4610160"/>
            <a:ext cx="464832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47280" y="2046240"/>
            <a:ext cx="867564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2057400"/>
            <a:ext cx="333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/>
              </a:rPr>
              <a:t>http://www.timeforkids.com/minisite/election-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569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3396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ma thinks that if he did not become president that the world would be b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think that I will keep going to work on incoming U.S private-sector job market. The idea is meaning to create jobs and boost for the struggling U.S econom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4000" y="1912680"/>
            <a:ext cx="42339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idea is to  give back to the American economy here Tuesday,offering information outline that includes reap l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'm lifting federal relations  on businesses to promote economic heal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486240" y="25704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Economy and job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569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6200" y="-914400"/>
            <a:ext cx="2971800" cy="25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Inverted">
              <a:avLst>
                <a:gd name="adj" fmla="val 6082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HEALTHCARE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think  I'm going to keep going to defend and implement souposable  the Obama care 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ves in upholding Roe v. wade the 1973 su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9400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'm going to be quick reform the affordable healthcare my trust  is in federal  government  should not really have trouble in health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339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temporarily I'm making   the bush-era tax cuts bigger for some of those people who earn less than 250,000 a whole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tax password and shut-down loopholes for the people lots of mon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94000" y="1912680"/>
            <a:ext cx="42339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o make it stay , across the board 20 percent witch the meaning is reducing the getting higher tax burden on the people who earn lost of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so I am going to round the tax averag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going to encourage learning retry through the race to the top program which helps   states with national fund raising school r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9400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ve most power to make the federal  level to empower the governors to retry education of working people trust in bigger school choice or the choice for guardian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5270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33960" cy="4260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ma says support the dream act of respo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94000" y="1912680"/>
            <a:ext cx="4233960" cy="4260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tt Romney says the same thing Obama s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5:12:19Z</dcterms:created>
  <dc:creator/>
  <dc:description/>
  <dc:language>en-US</dc:language>
  <cp:lastModifiedBy/>
  <cp:revision>1</cp:revision>
  <dc:subject/>
  <dc:title/>
</cp:coreProperties>
</file>